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46b86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7071-2044-43F2-A07B-DD6A3DCC0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A01D-A337-403F-98A0-E1D7EC2B1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5803-C6B8-4BD8-AB75-F5467E73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63A7-3221-4B2A-B57A-E8591ADD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03B2-C71F-43F8-BE99-DF9E76B8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305E-497F-4FC3-9BDE-3ACE7612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24D8-B53E-4290-8D26-AB5D5615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C07F-3E36-468C-AF36-81BD0EE9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E1EC-A925-4680-B913-DA7B6773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FF792-0FA2-443C-8F9C-7B25BD50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CECA-FDFD-4751-AF9E-33DA83D0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0FA2-F576-499B-982E-B7A00C5B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7104-E81D-4173-AAF6-B4B61E41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FB27-C7E8-4797-A148-B84DDDDC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46b86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8cad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8c7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8fb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213E-B622-467D-ADE7-7D09DEC1EDB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5d1d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5d1d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202480" y="50004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646b86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646b86"/>
                </a:solidFill>
                <a:latin typeface="Times New Roman"/>
              </a:rPr>
              <a:t>Интегрисане академске студије медици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324000" y="175248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Times New Roman"/>
              </a:rPr>
              <a:t>МОДУЛ </a:t>
            </a:r>
            <a:r>
              <a:rPr b="1" lang="sr-CS" sz="2400" spc="-1" strike="noStrike">
                <a:solidFill>
                  <a:srgbClr val="646b86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646b86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646b8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46b86"/>
                </a:solidFill>
                <a:latin typeface="Times New Roman"/>
              </a:rPr>
              <a:t>Посебни видови вештине комуник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835280" y="3124080"/>
            <a:ext cx="5616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646b86"/>
                </a:solidFill>
                <a:latin typeface="Times New Roman"/>
              </a:rPr>
              <a:t>9. наставна јединица (девета недеља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46b86"/>
                </a:solidFill>
                <a:latin typeface="Times New Roman"/>
              </a:rPr>
              <a:t>Вештина комуникације у вези са заразним болест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001400" y="573264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46b86"/>
                </a:solidFill>
                <a:latin typeface="Times New Roman"/>
              </a:rPr>
              <a:t>Доц. др Ана Равић Николи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6b86"/>
                </a:solidFill>
                <a:latin typeface="Cambria"/>
              </a:rPr>
              <a:t>ВЕШТИНА КОМУНИКАЦИЈЕ У ВЕЗИ СА ЗАРАЗНИМ И</a:t>
            </a:r>
            <a:br>
              <a:rPr sz="2400"/>
            </a:br>
            <a:r>
              <a:rPr b="0" lang="ru-RU" sz="2400" spc="-1" strike="noStrike">
                <a:solidFill>
                  <a:srgbClr val="646b86"/>
                </a:solidFill>
                <a:latin typeface="Cambria"/>
              </a:rPr>
              <a:t>ДЕРМАТОВЕНЕРОЛОШКИМ БОЛЕСТИМА</a:t>
            </a:r>
            <a:endParaRPr b="0" lang="en-US" sz="24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днос према ХИВ позитивном пацијен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днос према пацијенту са венеричним обољењ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днос према пацијенту са кожним обољењ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46b86"/>
                </a:solidFill>
                <a:latin typeface="Cambria"/>
              </a:rPr>
              <a:t>Најосетљивија комуникација у клиничкој пракси</a:t>
            </a:r>
            <a:endParaRPr b="0" lang="en-US" sz="3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0000"/>
                </a:solidFill>
                <a:latin typeface="Calibri"/>
              </a:rPr>
              <a:t>Дерматовенеролошка обоље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- Све сексуално преносиве болести (скраћено СТД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- Паранеопластичне дерматоз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- Системске болести везивног тки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- Хроничне кожне боле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бољења инфективне етиолог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АИД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Хепатитис Б и 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4864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30124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46b86"/>
                </a:solidFill>
                <a:latin typeface="Cambria"/>
              </a:rPr>
              <a:t>Комуникација</a:t>
            </a:r>
            <a:r>
              <a:rPr b="0" lang="sr-Latn-RS" sz="40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000" spc="-1" strike="noStrike">
                <a:solidFill>
                  <a:srgbClr val="646b86"/>
                </a:solidFill>
                <a:latin typeface="Cambria"/>
              </a:rPr>
              <a:t>са</a:t>
            </a:r>
            <a:r>
              <a:rPr b="0" lang="sr-Latn-RS" sz="40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000" spc="-1" strike="noStrike">
                <a:solidFill>
                  <a:srgbClr val="646b86"/>
                </a:solidFill>
                <a:latin typeface="Cambria"/>
              </a:rPr>
              <a:t>пацијентима</a:t>
            </a:r>
            <a:r>
              <a:rPr b="0" lang="sr-Latn-RS" sz="4000" spc="-1" strike="noStrike">
                <a:solidFill>
                  <a:srgbClr val="646b86"/>
                </a:solidFill>
                <a:latin typeface="Cambria"/>
              </a:rPr>
              <a:t> који болују од АИДС-а</a:t>
            </a:r>
            <a:endParaRPr b="0" lang="en-US" sz="40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524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днос према ХИВ позитивном пацијен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Однос лекара се базира на начелу добробити и избегавања штете за болесн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Заштита приватности и поверљив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бавезно пружање најбоље здравствене зашти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збегавати предрасуде везане за ХИВ позитивне болесни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Комуникациј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с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пацијентим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који болују од АИДС-а</a:t>
            </a:r>
            <a:endParaRPr b="0" lang="en-US" sz="41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днос према ХИВ позитивном пацијен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Ниједном пацијенту не оспоравати третман због природе његове боле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Болест не сме бити разлог за ускраћивање помоћ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Пацијент доноси одлуку о свом лечењ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Правилно информисати пацијента о природи његове болести, последицама лечења и нелече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Комуникациј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с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пацијентим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који болују од заразних болести</a:t>
            </a:r>
            <a:endParaRPr b="0" lang="en-US" sz="41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Информације о пацијенту објавити само уз допуштење пацијен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ИЗУЗЕТАК: ако је угрожено здравље људи из окол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Нада увек мора да постој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600" spc="-1" strike="noStrike">
                <a:solidFill>
                  <a:srgbClr val="646b86"/>
                </a:solidFill>
                <a:latin typeface="Cambria"/>
              </a:rPr>
              <a:t>Психолошка реакција на болест</a:t>
            </a: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Ш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евери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тр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еизвесно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сећај кривиц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Каја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600" spc="-1" strike="noStrike">
                <a:solidFill>
                  <a:srgbClr val="646b86"/>
                </a:solidFill>
                <a:latin typeface="Cambria"/>
              </a:rPr>
              <a:t>Психолошка реакција на болест</a:t>
            </a: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Озлојађено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Повлечење у себ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золација од спољњег све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Бе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Мрж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Жеља да се казне други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sr-CS" sz="4100" spc="-1" strike="noStrike">
                <a:solidFill>
                  <a:srgbClr val="646b86"/>
                </a:solidFill>
                <a:latin typeface="Cambria"/>
              </a:rPr>
              <a:t>К</a:t>
            </a:r>
            <a:r>
              <a:rPr b="0" lang="sr-CS" sz="3600" spc="-1" strike="noStrike">
                <a:solidFill>
                  <a:srgbClr val="646b86"/>
                </a:solidFill>
                <a:latin typeface="Cambria"/>
              </a:rPr>
              <a:t>омуникација у вези са превенцијом заразних болести</a:t>
            </a:r>
            <a:br>
              <a:rPr sz="4100"/>
            </a:br>
            <a:endParaRPr b="0" lang="en-US" sz="3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Једини начин лечења АИДС-а и других СТД је успешна превен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Здравствено васпитањ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нформа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Едука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Тестира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5:29:33Z</dcterms:created>
  <dc:creator>Win7</dc:creator>
  <dc:description/>
  <dc:language>en-US</dc:language>
  <cp:lastModifiedBy>Slavica</cp:lastModifiedBy>
  <dcterms:modified xsi:type="dcterms:W3CDTF">2018-01-21T12:41:16Z</dcterms:modified>
  <cp:revision>23</cp:revision>
  <dc:subject/>
  <dc:title>Вештина комуникације у инфектологији и дерматовенерологији</dc:title>
</cp:coreProperties>
</file>